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D5D-DED1-454E-9EB9-ED5D97DC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3CD-8FFF-463F-A369-CD21353B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8E8-9CAC-44E7-9C77-10A91DF6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274-1BF2-4ACF-AE14-2770D1C2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FA33-63B8-4241-B123-3690906B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A748-C80A-49EE-AD6A-3924BFE9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E6D0-31E6-4D4C-92C3-1624C7B3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4A41-48B2-4CDD-B588-CFDD98A3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EEB8-9191-4171-B08D-FE59E272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6E3C-FAA0-4FE9-A2B0-685614AA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A0BE-3F84-405B-B5DA-8CB1C95C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2F3-0287-43CE-981F-56B52FBE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18A9-F134-4066-B6ED-7655ACA0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A54F-1BD8-48D1-8F64-C971FFF7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45F7-5D44-4CBC-A348-FB840ABD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AD05-8848-4A97-A818-CF7C6C66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CA08-7451-4585-A9FF-0BF90BEA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E3FC6-860E-4487-B0AC-239FF311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2C6D4-A15F-41BF-8F3D-28C0CFF9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E4BE-68C1-462E-BCA2-7DC3D8A9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77248-660D-48A9-AFA0-1878A759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33513-C1A0-4B74-B853-44960867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D0B-8D4A-466E-BDE2-DB2D7B26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565B9-0697-4076-9892-772DC84C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702C6-6C9C-4368-92EE-C7FA5825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AB70-5700-4A93-8FC5-1DAC57E4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B3A11-6379-46B5-9FB8-6AC3DEEE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36F3-CD91-42D2-844A-1FCA92FC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BE4E5-0C18-4B6C-A49D-F81D2311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AC85-EB94-4A60-B9C9-2C968F00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CC551-F28C-415E-8C12-A9AD888B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D34EC-3C9A-432D-9891-8128CF8A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EEFBA-CB83-400D-93DE-ABB9B3B2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163-A3E0-4902-9F84-4F060696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4FF5B-DB51-4EA1-93A6-29692E24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F13FE-7CAC-44A9-8562-21386971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D8A97-DD1E-434A-8E6E-9005EE74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76A0-1C5E-48F5-81D4-B0F0B2C6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FD010-1B72-4681-B24F-F8D0D7D9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2BAB4-C8AB-4D52-95AB-31D337E8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6FFC2-8242-4F57-83CC-E7087EC1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57652-FE14-43B5-9459-6115114E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80BD0-6936-4AF5-BDB4-F0477DFB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7D3BF-721E-4E38-964E-FC5E5BA2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CE6-8709-4E01-93E8-0753F38E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530FA-FAA9-4ADA-81F6-D5FCD852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2844A-94D2-4B2C-B03D-8B265185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7329-B534-420F-950E-DCE6AB70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D8CE0-8D78-409C-8B28-C6F31A28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9E3D5-0820-4847-8B66-BD055806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A888C-2792-4983-AA3B-14A322B1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DE474-614D-4209-9E18-3CE1D058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CA112-9741-410D-8343-87AA538A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A2FCF-86F0-4A44-8EA8-6432C705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5AD9C-C497-4666-AAD3-81199830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435-080F-4E0A-9819-DF0F17DD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63C7D-3F4A-4D9D-A5A6-E0E611DA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E9708-A520-4EAA-98C1-CCECB7E2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C7801-7894-4978-BE26-A01B4763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E84A4-8D34-43B7-B62A-0AD315F9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4E73A-BF16-4C46-9483-9C5515DE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485ED-E3C4-4866-A072-A8CEEE10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09BFF-B42F-498F-86C8-CD4C04EA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FBD5A-FE32-472E-BFF2-748A5E26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3964C-1071-41A5-878C-BD3402E9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29622-C0C5-491D-9CDA-1DA1AD9B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2F3-5523-44D8-A6B2-57D589C4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F17E4-77B2-4E6C-9C1B-B7731818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942AA-D37E-4B97-AC83-81AC378A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2C217-A7F8-4C18-A334-7DC023A4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DD191-F1F5-4061-A71D-5BAA4592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E5665-5840-4808-BC56-79B52899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1C4F5-B0BF-4995-968E-135483D3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6B254-20BA-4FBE-B026-4A9B518E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E9C00-3E9F-44F4-A262-223C1C3E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B415-FD24-47D8-82A3-846C7A93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A4FFA-D1BB-4208-88CE-82537983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578-6D61-42CE-86DA-E4C56C51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28596-2805-4B72-9416-0355BE75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74AF4-D734-4C73-852A-783C4A8B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80F19-E422-4DF0-A186-EE87B787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02BDB-7DD8-4F5B-A922-D15381E4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9A4E3-21A0-4C63-AF3B-639CD5FC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CA8AE-3952-4770-AA7E-988109CA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85DEF-9CFF-4E01-AFDF-BC7F05EF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15A0E-7942-4827-9615-78ED6D81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ECCF4-0E5A-4587-8B7E-693F4F5D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0533B-1D93-49AB-9DD2-614C7D8D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D87-0CF8-4F71-A5DC-1287FFD1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9D20C-F191-491F-9B0F-C3529416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88F21-B60E-467A-B010-CC7E6954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B568D-E33D-4570-987E-7FB54D78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5293A-4230-4823-84F4-6A6BA6F6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EAEB0-C341-457F-86B5-4E67D996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DF727-0DD9-4E1B-9E11-D749BCCB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FC229-2A20-411D-B435-D4D03431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FB12-D1B8-49AE-807C-C21D94C4FA9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7027-F8E1-4D91-8A90-371C51C2384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93FA-831E-4409-85A0-EA0AD698540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244A-A06C-4A9B-B0C4-461EC74BD4E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BCF2-9A04-4CB6-B329-B1D131D90B5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97A0-58B3-4902-8891-C0EB452D008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7F04-E45F-4B10-8029-60B4A41C9F7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2651-9C99-402B-9EDF-8EC214606F1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8" descr=""/>
          <p:cNvPicPr/>
          <p:nvPr/>
        </p:nvPicPr>
        <p:blipFill>
          <a:blip r:embed="rId1"/>
          <a:stretch/>
        </p:blipFill>
        <p:spPr>
          <a:xfrm>
            <a:off x="689040" y="177948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87-2"/>
          <p:cNvPicPr/>
          <p:nvPr/>
        </p:nvPicPr>
        <p:blipFill>
          <a:blip r:embed="rId1"/>
          <a:stretch/>
        </p:blipFill>
        <p:spPr>
          <a:xfrm>
            <a:off x="1143000" y="214200"/>
            <a:ext cx="7143840" cy="478152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2"/>
          <p:cNvSpPr/>
          <p:nvPr/>
        </p:nvSpPr>
        <p:spPr>
          <a:xfrm>
            <a:off x="1143000" y="492912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6" descr="25184_20051207163856"/>
          <p:cNvPicPr/>
          <p:nvPr/>
        </p:nvPicPr>
        <p:blipFill>
          <a:blip r:embed="rId1"/>
          <a:stretch/>
        </p:blipFill>
        <p:spPr>
          <a:xfrm>
            <a:off x="1285920" y="214200"/>
            <a:ext cx="6192720" cy="380232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2"/>
          <p:cNvSpPr/>
          <p:nvPr/>
        </p:nvSpPr>
        <p:spPr>
          <a:xfrm>
            <a:off x="1214280" y="4714920"/>
            <a:ext cx="64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7" descr="getfull"/>
          <p:cNvPicPr/>
          <p:nvPr/>
        </p:nvPicPr>
        <p:blipFill>
          <a:blip r:embed="rId1"/>
          <a:stretch/>
        </p:blipFill>
        <p:spPr>
          <a:xfrm>
            <a:off x="571680" y="214200"/>
            <a:ext cx="8215200" cy="472464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2"/>
          <p:cNvSpPr/>
          <p:nvPr/>
        </p:nvSpPr>
        <p:spPr>
          <a:xfrm>
            <a:off x="1357200" y="5214960"/>
            <a:ext cx="72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6" descr="88-4"/>
          <p:cNvPicPr/>
          <p:nvPr/>
        </p:nvPicPr>
        <p:blipFill>
          <a:blip r:embed="rId1"/>
          <a:stretch/>
        </p:blipFill>
        <p:spPr>
          <a:xfrm>
            <a:off x="500040" y="285840"/>
            <a:ext cx="8358120" cy="417348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2"/>
          <p:cNvSpPr/>
          <p:nvPr/>
        </p:nvSpPr>
        <p:spPr>
          <a:xfrm>
            <a:off x="785880" y="478620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88-5"/>
          <p:cNvPicPr/>
          <p:nvPr/>
        </p:nvPicPr>
        <p:blipFill>
          <a:blip r:embed="rId1"/>
          <a:stretch/>
        </p:blipFill>
        <p:spPr>
          <a:xfrm>
            <a:off x="2357280" y="285840"/>
            <a:ext cx="4457880" cy="442440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3"/>
          <p:cNvSpPr/>
          <p:nvPr/>
        </p:nvSpPr>
        <p:spPr>
          <a:xfrm>
            <a:off x="2428920" y="52862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тащив из воды, проверьте его дыхание и пуль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89-7"/>
          <p:cNvPicPr/>
          <p:nvPr/>
        </p:nvPicPr>
        <p:blipFill>
          <a:blip r:embed="rId1"/>
          <a:stretch/>
        </p:blipFill>
        <p:spPr>
          <a:xfrm>
            <a:off x="2286000" y="214200"/>
            <a:ext cx="4281480" cy="431964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2"/>
          <p:cNvSpPr/>
          <p:nvPr/>
        </p:nvSpPr>
        <p:spPr>
          <a:xfrm>
            <a:off x="857160" y="492912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Lucida Sans Unicode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Lucida Sans Unicode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87-1"/>
          <p:cNvPicPr/>
          <p:nvPr/>
        </p:nvPicPr>
        <p:blipFill>
          <a:blip r:embed="rId1"/>
          <a:stretch/>
        </p:blipFill>
        <p:spPr>
          <a:xfrm>
            <a:off x="2143080" y="857160"/>
            <a:ext cx="4457880" cy="39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Lucida Sans Unicode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25184_20051207163842"/>
          <p:cNvPicPr/>
          <p:nvPr/>
        </p:nvPicPr>
        <p:blipFill>
          <a:blip r:embed="rId1"/>
          <a:stretch/>
        </p:blipFill>
        <p:spPr>
          <a:xfrm>
            <a:off x="428760" y="0"/>
            <a:ext cx="871524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Lucida Sans Unicode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500040" y="189000"/>
            <a:ext cx="8358120" cy="45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928800" y="214200"/>
            <a:ext cx="7215120" cy="388476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2"/>
          <p:cNvSpPr/>
          <p:nvPr/>
        </p:nvSpPr>
        <p:spPr>
          <a:xfrm>
            <a:off x="1000080" y="4429080"/>
            <a:ext cx="7215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6" descr="photo20"/>
          <p:cNvPicPr/>
          <p:nvPr/>
        </p:nvPicPr>
        <p:blipFill>
          <a:blip r:embed="rId1"/>
          <a:stretch/>
        </p:blipFill>
        <p:spPr>
          <a:xfrm>
            <a:off x="1357200" y="214200"/>
            <a:ext cx="6786720" cy="388476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2"/>
          <p:cNvSpPr/>
          <p:nvPr/>
        </p:nvSpPr>
        <p:spPr>
          <a:xfrm>
            <a:off x="1357200" y="492912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7" descr="0074-3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400032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2"/>
          <p:cNvSpPr/>
          <p:nvPr/>
        </p:nvSpPr>
        <p:spPr>
          <a:xfrm>
            <a:off x="714240" y="4572000"/>
            <a:ext cx="728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6" descr="20081223172210"/>
          <p:cNvPicPr/>
          <p:nvPr/>
        </p:nvPicPr>
        <p:blipFill>
          <a:blip r:embed="rId1"/>
          <a:stretch/>
        </p:blipFill>
        <p:spPr>
          <a:xfrm>
            <a:off x="714240" y="285840"/>
            <a:ext cx="7286760" cy="406224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2"/>
          <p:cNvSpPr/>
          <p:nvPr/>
        </p:nvSpPr>
        <p:spPr>
          <a:xfrm>
            <a:off x="1071720" y="4714920"/>
            <a:ext cx="700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вигайтесь   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1:26:39Z</dcterms:created>
  <dc:creator>Admin</dc:creator>
  <dc:description/>
  <dc:language>en-US</dc:language>
  <cp:lastModifiedBy>user</cp:lastModifiedBy>
  <dcterms:modified xsi:type="dcterms:W3CDTF">2019-03-23T14:45:31Z</dcterms:modified>
  <cp:revision>9</cp:revision>
  <dc:subject/>
  <dc:title>Слайд 1</dc:title>
</cp:coreProperties>
</file>